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932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802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802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932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932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932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520" y="1802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63600" y="595080"/>
            <a:ext cx="83930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5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802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9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932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520" y="3932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9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600" y="1802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52680" y="1802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520" y="3932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600" y="3932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52680" y="3932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3600" y="595080"/>
            <a:ext cx="83930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932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802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932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802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734840" indent="-318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2313000" y="4505400"/>
            <a:ext cx="1752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ject 5" descr=""/>
          <p:cNvPicPr/>
          <p:nvPr/>
        </p:nvPicPr>
        <p:blipFill>
          <a:blip r:embed="rId10"/>
          <a:stretch/>
        </p:blipFill>
        <p:spPr>
          <a:xfrm>
            <a:off x="0" y="0"/>
            <a:ext cx="83808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520" y="1802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734840" indent="-318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596880"/>
            <a:ext cx="88171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4d00"/>
                </a:solidFill>
                <a:latin typeface="Arial"/>
                <a:ea typeface="宋体"/>
              </a:rPr>
              <a:t>实验二、线程同步与通信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0000" y="1483920"/>
            <a:ext cx="838836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宋体"/>
              </a:rPr>
              <a:t>一、实验目的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掌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Linu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线程的概念；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了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Linu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程同步与通信的主要机制；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通过信号灯操作实现线程间的同步与互斥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63240" y="595080"/>
            <a:ext cx="8405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、线程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）线程创建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pthread_create(pthread_t  *thread, pthread_attr_t</a:t>
            </a: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*attr,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void *(*start_routine)(void *),void *arg)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2)pthread_join(pthread_t th, void **thread_retrun)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作用：挂起当前线程直到由参数</a:t>
            </a: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th</a:t>
            </a:r>
            <a:r>
              <a:rPr b="0" lang="zh-CN" sz="2400" spc="-1" strike="noStrike">
                <a:solidFill>
                  <a:srgbClr val="5f5f5f"/>
                </a:solidFill>
                <a:latin typeface="宋体"/>
                <a:ea typeface="宋体"/>
              </a:rPr>
              <a:t>指定的线程被终止为止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63240" y="595440"/>
            <a:ext cx="84056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、编辑、编译、调试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$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vi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$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c –o  test  -g test.c –lpthread  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$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gdb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63240" y="595440"/>
            <a:ext cx="840564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宋体"/>
              </a:rPr>
              <a:t>四、实验指导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9280" y="1197000"/>
            <a:ext cx="883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50920" y="1825560"/>
            <a:ext cx="840420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#include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文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pthread.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ys/types.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linux/sem.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作的函数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void P(int semid,in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void V(int semid,in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信号灯、线程句柄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int semid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pthread_t p1,p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程执行函数定义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void *subp1();void *subp2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8920" y="665280"/>
            <a:ext cx="424836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*subp1(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 (......)  {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(…….)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打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(…..)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ub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责计算，如何定义？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995640" y="1608120"/>
            <a:ext cx="49690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函数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in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信号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信号灯赋初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两个线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ub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ubp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待两个线程运行结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删除信号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4000" y="1052640"/>
            <a:ext cx="8388360" cy="37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宋体"/>
              </a:rPr>
              <a:t>二、实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nu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线程与信号灯机制，设计并实现计算机线程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程共享缓冲区的同步与通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要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线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享公共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责计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累加，每次加一个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责打印（输出累加的中间结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63240" y="595080"/>
            <a:ext cx="8405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宋体"/>
              </a:rPr>
              <a:t>三、预备知识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下的信号灯及其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P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V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操作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nu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信号灯是一个数据集合，可以单独使用这一集合的每个元素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关的系统调用命令：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ge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返回一个被内核指定的整型的信号灯索引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o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执行对信号灯集的操作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c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执行对信号灯集的控制操作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63240" y="595440"/>
            <a:ext cx="840564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号灯的定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结构的原型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emid_ds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linux/sem.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定义：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struct semid_ds{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struct  ipc_permsem_perm;/*permissions..seeipc.h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time_t  sem_otime;/*last semop time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time_t sem_ctime;/*last change time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struct  sem*sem_base;/*ptr to first semaphore in array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struct  wait_queue *eventn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struct  wait_queue  *eventz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struct  sem_undo*undo;/*undo requestson this array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ushort sem_nsems;/*no. of semaphores in array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};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65040" y="477720"/>
            <a:ext cx="84060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号量的创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系统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emget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一个新的信号量集，或者存取一个已经存在的信号量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型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int semget(key_t key,int nsems,int semflg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返回值：如果成功，则返回信号量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I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识符。如果失败，则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1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emflg:IPC_CREAT | 0666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sems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信号灯的个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620280"/>
            <a:ext cx="81532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信号量的操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调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op(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原型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semop(int semid,struct sembuf *sops,unsigned nsops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返回值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如果成功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如果失敗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ruct sembuf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short sem_num;/*semaphore index in array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ort sem_op;/*semaphore operation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ort sem_flg;/*operation flags*/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_nu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将要处理的信号量的下标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_op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执行的操作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_fl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作标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IPC_NOWAI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63600" y="595440"/>
            <a:ext cx="8601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作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void P(int semid,int index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struct sembuf sem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em.sem_num = index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em.sem_op = -1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em.sem_flg = 0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作标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IPC_NO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emop(semid,&amp;sem,1)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/1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表示执行命令的个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63240" y="595440"/>
            <a:ext cx="8405640" cy="55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作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V(int semid,int index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ruct sembuf sem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.sem_num = index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.sem_op =  1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.sem_flg = 0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op(semid,&amp;sem,1)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980640"/>
            <a:ext cx="77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信号量的赋值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调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ctl(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型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semctl(int semid,int semnum,int cmd,union semun arg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返回值：如果成功，则为一个正数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参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m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可以使用的命令如下：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·IPC_RM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将信号量集从内存中删除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·SET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设置信号量集中的所有的信号量的值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·SETV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设置信号量集中的一个单独的信号量的值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rg.val=1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emctl(semid,1,SETVAL,arg)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9:46:52Z</dcterms:created>
  <dc:creator>yangfm-PC</dc:creator>
  <dc:description/>
  <dc:language>en-US</dc:language>
  <cp:lastModifiedBy>Administrator</cp:lastModifiedBy>
  <cp:lastPrinted>1899-12-30T00:00:00Z</cp:lastPrinted>
  <dcterms:modified xsi:type="dcterms:W3CDTF">2016-11-04T04:06:17Z</dcterms:modified>
  <cp:revision>7</cp:revision>
  <dc:subject/>
  <dc:title>实验二、线程同步与通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57</vt:lpwstr>
  </property>
</Properties>
</file>